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937-5BD7-40DB-9A57-A919C18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D8B-29CC-447D-8672-CDD1A341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F8E-47EB-48E6-B459-6349F962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31A-8D03-4FD9-8E98-BFE5E1C5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099-F121-4F04-8392-9AEC1F86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A5E-FC82-48F4-95A6-DC126E5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8B7-1D51-40FE-8152-D7544C6C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C6E-E47D-47C9-B93A-012F46D6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FBC-213A-4B84-A84B-29F3A3E7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1D6-3F12-4DA5-B6B8-09ED41A6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2BA-8E0F-482C-B6F0-2FBA7C4B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574-2BF7-4663-BAE7-2C1F27B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91EA-8192-4392-8CB7-7754149360B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5290920" cy="701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dreamed I went to heaven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800600" cy="6553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09480" y="7620120"/>
            <a:ext cx="5715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s Jesus took your hand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e said. . .Great is your reward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668920" cy="6933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Thank you for giving to the Lord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5290920" cy="701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m so glad you gave!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5845320" cy="6705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905120" y="3733920"/>
            <a:ext cx="24382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5459400" cy="678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e heard the angels singing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25560" y="990720"/>
            <a:ext cx="5373720" cy="670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7772400"/>
            <a:ext cx="64008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You used to teach my  school when I was only 8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8320" y="1219320"/>
            <a:ext cx="5308560" cy="647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sked Jesus in my heart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3120" y="838080"/>
            <a:ext cx="5506920" cy="670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m a life that was changed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5200" y="914400"/>
            <a:ext cx="5368680" cy="678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nother man stood before you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733560" cy="2432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3098520" cy="2288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76920" y="1447920"/>
            <a:ext cx="1523880" cy="21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403848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3520" y="7620120"/>
            <a:ext cx="5719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is pictures made you cry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5251320" cy="662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m so glad you gave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4933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09480" y="7848720"/>
            <a:ext cx="556272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One by one they cam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s far as eye could see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0:35:23Z</dcterms:created>
  <dc:creator>MERIT Mathtech</dc:creator>
  <dc:description/>
  <dc:language>en-US</dc:language>
  <cp:lastModifiedBy>Sister Edward Quinn</cp:lastModifiedBy>
  <dcterms:modified xsi:type="dcterms:W3CDTF">2010-04-22T16:17:46Z</dcterms:modified>
  <cp:revision>15</cp:revision>
  <dc:subject/>
  <dc:title>Slide 1</dc:title>
</cp:coreProperties>
</file>